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D0A-24D3-419C-8170-FE349129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F36-0362-46F2-A931-EF0888B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41C-6ADA-4ED9-99A2-1AF4A640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DEB-7FAB-45B8-AF43-CA1B56F9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0CE-A4C4-4AEE-9410-8BDDF5C2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5B8-EBD8-4C71-985F-FAAD0AE1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341-16B0-4F8B-B97A-6DA7EB35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AA0-26B8-44FE-B6B2-C9DF79D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1AB-64A0-4B30-8ED6-DF0AC0A8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EA0-59DC-4CE3-B359-A2D78451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22E-9182-4F27-AE13-079A905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017-D3D5-4AFE-ACCE-FA3897E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32AD-11EF-46A0-8369-98670060BD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java.com/en/download/index.jsp" TargetMode="External"/><Relationship Id="rId4" Type="http://schemas.openxmlformats.org/officeDocument/2006/relationships/hyperlink" Target="http://www.java.com/en/download/index.jsp" TargetMode="External"/><Relationship Id="rId5" Type="http://schemas.openxmlformats.org/officeDocument/2006/relationships/hyperlink" Target="http://www.java.com/en/download/index.jsp" TargetMode="External"/><Relationship Id="rId6" Type="http://schemas.openxmlformats.org/officeDocument/2006/relationships/hyperlink" Target="http://www.java.com/en/download/index.jsp" TargetMode="External"/><Relationship Id="rId7" Type="http://schemas.openxmlformats.org/officeDocument/2006/relationships/hyperlink" Target="http://www.java.com/en/download/index.jsp" TargetMode="External"/><Relationship Id="rId8" Type="http://schemas.openxmlformats.org/officeDocument/2006/relationships/hyperlink" Target="http://www.java.com/en/download/index.jsp" TargetMode="External"/><Relationship Id="rId9" Type="http://schemas.openxmlformats.org/officeDocument/2006/relationships/hyperlink" Target="http://www.java.com/en/download/index.jsp" TargetMode="External"/><Relationship Id="rId10" Type="http://schemas.openxmlformats.org/officeDocument/2006/relationships/hyperlink" Target="http://www.java.com/en/download/index.jsp" TargetMode="External"/><Relationship Id="rId11" Type="http://schemas.openxmlformats.org/officeDocument/2006/relationships/hyperlink" Target="http://www.java.com/en/download/index.jsp" TargetMode="External"/><Relationship Id="rId12" Type="http://schemas.openxmlformats.org/officeDocument/2006/relationships/hyperlink" Target="http://www.java.com/en/download/index.jsp" TargetMode="External"/><Relationship Id="rId13" Type="http://schemas.openxmlformats.org/officeDocument/2006/relationships/hyperlink" Target="http://www.java.com/en/download/index.jsp" TargetMode="External"/><Relationship Id="rId14" Type="http://schemas.openxmlformats.org/officeDocument/2006/relationships/hyperlink" Target="http://www.java.com/en/download/index.jsp" TargetMode="External"/><Relationship Id="rId15" Type="http://schemas.openxmlformats.org/officeDocument/2006/relationships/hyperlink" Target="http://www.java.com/en/download/index.jsp" TargetMode="External"/><Relationship Id="rId16" Type="http://schemas.openxmlformats.org/officeDocument/2006/relationships/hyperlink" Target="http://www.java.com/en/download/index.jsp" TargetMode="External"/><Relationship Id="rId17" Type="http://schemas.openxmlformats.org/officeDocument/2006/relationships/hyperlink" Target="http://www.java.com/en/download/index.jsp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How to use the Elluminate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udents Summit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56040" y="1523880"/>
            <a:ext cx="4287960" cy="4353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648320"/>
            <a:ext cx="4800600" cy="1477080"/>
          </a:xfrm>
          <a:prstGeom prst="rect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You need to have java, if you don’t have it,  use this link to downloa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java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en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ownload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dex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use Googl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nd other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8120"/>
            <a:ext cx="3886200" cy="1295280"/>
          </a:xfrm>
          <a:prstGeom prst="wedgeRectCallout">
            <a:avLst>
              <a:gd name="adj1" fmla="val 101347"/>
              <a:gd name="adj2" fmla="val 29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 your name here an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’t close this window and you will be taken to the summi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3733560" cy="1334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, you are going to receive a link inviting you to the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ss the link until you get thi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0480"/>
            <a:ext cx="6858000" cy="480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1600200" cy="1676520"/>
          </a:xfrm>
          <a:prstGeom prst="wedgeRectCallout">
            <a:avLst>
              <a:gd name="adj1" fmla="val 87796"/>
              <a:gd name="adj2" fmla="val 13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participants names, the yellow microphone indicates the person who is spe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1219320" cy="914400"/>
          </a:xfrm>
          <a:prstGeom prst="wedgeRectCallout">
            <a:avLst>
              <a:gd name="adj1" fmla="val 77865"/>
              <a:gd name="adj2" fmla="val -164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ritten Chat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410080"/>
            <a:ext cx="1941480" cy="1295640"/>
          </a:xfrm>
          <a:prstGeom prst="wedgeRectCallout">
            <a:avLst>
              <a:gd name="adj1" fmla="val 4949"/>
              <a:gd name="adj2" fmla="val -113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ss here when it's your turn to s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181480"/>
            <a:ext cx="1503360" cy="1219320"/>
          </a:xfrm>
          <a:prstGeom prst="wedgeRectCallout">
            <a:avLst>
              <a:gd name="adj1" fmla="val -46305"/>
              <a:gd name="adj2" fmla="val -12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just your microphone and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5105520"/>
            <a:ext cx="3505320" cy="1600200"/>
          </a:xfrm>
          <a:prstGeom prst="wedgeRectCallout">
            <a:avLst>
              <a:gd name="adj1" fmla="val -29981"/>
              <a:gd name="adj2" fmla="val -92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hite Bo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here your picture will appear and sometimes the moderator uses it to write his notes or important details. Note: importing the image will be done by the moderator or teacher. Just post your image on the 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600200" cy="1752480"/>
          </a:xfrm>
          <a:prstGeom prst="wedgeRectCallout">
            <a:avLst>
              <a:gd name="adj1" fmla="val 82439"/>
              <a:gd name="adj2" fmla="val -38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n icon of a hand will appear here. Press it when you want to ask a question or to say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605480" cy="3776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our Graphic Im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600200"/>
            <a:ext cx="34290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design your graphic image using PowerPoint by collecting different  pics together in one sl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use Print Screen on your Keyboard, or capture pictures from video using Movie Maker. There is an icon on the corner to capture p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follow the instructions  here to save it as an im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5486400"/>
            <a:ext cx="4343400" cy="990720"/>
          </a:xfrm>
          <a:prstGeom prst="wedgeRectCallout">
            <a:avLst>
              <a:gd name="adj1" fmla="val -20287"/>
              <a:gd name="adj2" fmla="val -112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o to save 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then ch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PEG fil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676520" y="4190760"/>
            <a:ext cx="838080" cy="1447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 designed my image using PowerPoint, and I put the images that I talked about in the Teachers’ Summit: the Omani Group, the importance of Flat Classroom to connect students from different countries outsourced videos, etc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, make your image represent what you are going to talk about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importing the image will be done by the moderator or teacher. Just post your image on the n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OOD LUCK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njoy the summi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m Al-Busaid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ama Bin Zaid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00400" y="115920"/>
            <a:ext cx="3124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7:01:22Z</dcterms:created>
  <dc:creator>Intel</dc:creator>
  <dc:description/>
  <dc:language>en-US</dc:language>
  <cp:lastModifiedBy>Intel</cp:lastModifiedBy>
  <dcterms:modified xsi:type="dcterms:W3CDTF">2008-12-04T09:52:59Z</dcterms:modified>
  <cp:revision>5</cp:revision>
  <dc:subject/>
  <dc:title>How to use the Elluminate</dc:title>
</cp:coreProperties>
</file>